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30E-CBCB-4B3E-91EE-95E32EFD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371-B3AD-40A6-835C-C1EA2985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127-8B47-4366-9647-772BFD5A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294-B6B3-43EB-A351-4B45AC2A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15E6-89C2-4B65-A0C1-D057BD4A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F529-1057-481B-AD45-1F596220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DD74-82FB-42F0-AC2D-57CFF4DF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8E73-3E47-49F5-AE22-15AF46B2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6574-1410-44AC-96BC-8A0B376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7317-75E5-498B-B495-1EBA03BC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EE3A-EC28-462B-AA32-6C93DB5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84E-AD46-48FF-8F92-A23430D1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7341-65F9-43F1-9F08-9633B4A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DDE5-5962-458F-B18E-BD3F1DE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7222-546F-44B2-BB49-4BB4BC61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E61A-3574-4CC2-A09C-170E3732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B098-9AE7-4F25-B88A-4C3FC5AC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28AC2-7C69-4AEC-988F-D19A3BAB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0B1D-BDF7-42B2-B156-B0B11973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72118-2DCD-484F-A298-966BC06C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0528D-DCCA-45AF-9FB4-D9930648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18C2-AE15-4477-85C8-3FAEAE99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E32-0696-40D5-92D9-6033E3B1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CFDD-5490-4F1B-83FA-03889F52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22F8-D00E-4D99-A803-108C615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4599-6892-436B-95D0-520A1C9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6102-008C-4910-9C4B-370D9D52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9C2B6-99BF-49DA-A28C-7F5110D8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E8D9-6F0E-4083-BA32-219D130B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ADA6-0B55-469B-83E0-B4803B80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F11-6471-4498-BA58-0B53B843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3C7-D661-4753-9C6A-D085BB24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F73-869C-4105-BDB3-9524C5DA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4B9-823F-4801-93E0-58A46112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AEF-9F13-41FD-8B37-272247C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399-2A07-4BE2-B27B-A2C2CF25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0A45-D03B-47FA-A492-355F399C0FB5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10F6-036D-405E-BC5B-1227952C2DFA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064C-C240-4797-8252-CFBB9AAC2224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ЕГЭ по русскому языку, проведённого 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декабря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и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22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50920" y="-17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тражение позиции автора(К3). Отношение к позиции автора (К4). Смысловая цельность, речевая связность и последовательность изложения (К5). Точность и выразительность речи (К6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569960"/>
          <a:ext cx="883296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3240"/>
                <a:gridCol w="776520"/>
                <a:gridCol w="696960"/>
                <a:gridCol w="720720"/>
                <a:gridCol w="72072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орфографических норм(К7). Соблюдение пунктуационных норм (К8). Соблюдение грамматических норм (К9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569960"/>
          <a:ext cx="886464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1800"/>
                <a:gridCol w="777960"/>
                <a:gridCol w="696960"/>
                <a:gridCol w="720720"/>
                <a:gridCol w="75240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речевых норм(К10). Соблюдение этических норм (К11). Соблюдение фактологической точности в фоновом материале (К12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569960"/>
          <a:ext cx="8856720" cy="5157720"/>
        </p:xfrm>
        <a:graphic>
          <a:graphicData uri="http://schemas.openxmlformats.org/drawingml/2006/table">
            <a:tbl>
              <a:tblPr/>
              <a:tblGrid>
                <a:gridCol w="514440"/>
                <a:gridCol w="2433600"/>
                <a:gridCol w="842760"/>
                <a:gridCol w="758880"/>
                <a:gridCol w="757440"/>
                <a:gridCol w="931680"/>
                <a:gridCol w="835200"/>
                <a:gridCol w="861840"/>
                <a:gridCol w="9208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оцент выполнения заданий </a:t>
            </a:r>
            <a:br>
              <a:rPr sz="3200"/>
            </a:b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29 марта 2022 года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68" name="Объект 5"/>
          <p:cNvGraphicFramePr/>
          <p:nvPr/>
        </p:nvGraphicFramePr>
        <p:xfrm>
          <a:off x="406440" y="1001880"/>
          <a:ext cx="8331120" cy="53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1880"/>
                    <a:ext cx="8331120" cy="53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1" name="Объект 8"/>
          <p:cNvGraphicFramePr/>
          <p:nvPr/>
        </p:nvGraphicFramePr>
        <p:xfrm>
          <a:off x="406440" y="1146240"/>
          <a:ext cx="8331120" cy="52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46240"/>
                    <a:ext cx="833112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Объект 6"/>
          <p:cNvGraphicFramePr/>
          <p:nvPr/>
        </p:nvGraphicFramePr>
        <p:xfrm>
          <a:off x="406440" y="654120"/>
          <a:ext cx="8331120" cy="57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654120"/>
                    <a:ext cx="8331120" cy="57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6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9" name="Объект 5"/>
          <p:cNvGraphicFramePr/>
          <p:nvPr/>
        </p:nvGraphicFramePr>
        <p:xfrm>
          <a:off x="406440" y="1290600"/>
          <a:ext cx="83311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90600"/>
                    <a:ext cx="83311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2" name="Объект 5"/>
          <p:cNvGraphicFramePr/>
          <p:nvPr/>
        </p:nvGraphicFramePr>
        <p:xfrm>
          <a:off x="406440" y="1433520"/>
          <a:ext cx="833112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433520"/>
                    <a:ext cx="83311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Формулировка проблемы исходного текста (К1), </a:t>
            </a: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комментарий к сформулированной проблеме (К2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5" name="Объект 5"/>
          <p:cNvGraphicFramePr/>
          <p:nvPr/>
        </p:nvGraphicFramePr>
        <p:xfrm>
          <a:off x="406440" y="1577880"/>
          <a:ext cx="833112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77880"/>
                    <a:ext cx="8331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ЕГЭ по русскому языку приняли участ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59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(40) 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еловек  из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11( 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общеобразовательных учреждений 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Авторская позиция (А3), отношение к авторской позиции (К4), смысловая цельность, речевая связность и последовательность изложения (К5), </a:t>
            </a:r>
            <a:br>
              <a:rPr sz="1800"/>
            </a:b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точность и выразительность речи (К6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8" name="Объект 5"/>
          <p:cNvGraphicFramePr/>
          <p:nvPr/>
        </p:nvGraphicFramePr>
        <p:xfrm>
          <a:off x="406440" y="1506600"/>
          <a:ext cx="833112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06600"/>
                    <a:ext cx="83311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Орфографические нормы (К7), пунктуационные нормы (К8), грамматические нормы (К9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1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Речевые нормы (К10), этические нормы (К11), фактическая точность (К12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4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роцент выполнения работы выглядит 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5880" y="2349360"/>
          <a:ext cx="8229600" cy="3718080"/>
        </p:xfrm>
        <a:graphic>
          <a:graphicData uri="http://schemas.openxmlformats.org/drawingml/2006/table">
            <a:tbl>
              <a:tblPr/>
              <a:tblGrid>
                <a:gridCol w="4337280"/>
                <a:gridCol w="38923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порог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нее 16 балл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(2) ученика (5,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12) учеников (28,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(24) ученика (55,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2)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(10,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6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личество баллов (первичных), набр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ащимися в разрезе ш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557360"/>
          <a:ext cx="8713800" cy="5122800"/>
        </p:xfrm>
        <a:graphic>
          <a:graphicData uri="http://schemas.openxmlformats.org/drawingml/2006/table">
            <a:tbl>
              <a:tblPr/>
              <a:tblGrid>
                <a:gridCol w="3490920"/>
                <a:gridCol w="1785960"/>
                <a:gridCol w="844560"/>
                <a:gridCol w="863640"/>
                <a:gridCol w="865080"/>
                <a:gridCol w="863640"/>
              </a:tblGrid>
              <a:tr h="87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-29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8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юш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.Моркваш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08000" y="0"/>
            <a:ext cx="92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тилистический анализ текста. Средства связи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ое значение слова. Орфоэ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ие нормы. Грамматические нормы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5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1569960"/>
          <a:ext cx="8856720" cy="502776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  <a:gridCol w="792360"/>
              </a:tblGrid>
              <a:tr h="5540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10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рф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936720"/>
                <a:gridCol w="863640"/>
                <a:gridCol w="792000"/>
                <a:gridCol w="936720"/>
                <a:gridCol w="863640"/>
                <a:gridCol w="865080"/>
                <a:gridCol w="86364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69960"/>
          <a:ext cx="8856720" cy="5118120"/>
        </p:xfrm>
        <a:graphic>
          <a:graphicData uri="http://schemas.openxmlformats.org/drawingml/2006/table">
            <a:tbl>
              <a:tblPr/>
              <a:tblGrid>
                <a:gridCol w="457200"/>
                <a:gridCol w="2125440"/>
                <a:gridCol w="1254240"/>
                <a:gridCol w="1033560"/>
                <a:gridCol w="1181160"/>
                <a:gridCol w="885600"/>
                <a:gridCol w="1033560"/>
                <a:gridCol w="88596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8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 Анализ текста. Содержание текста, типы речи, значение слов, средства связи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редства выразительности речи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4 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368360"/>
                <a:gridCol w="1224000"/>
                <a:gridCol w="1297080"/>
                <a:gridCol w="1008000"/>
                <a:gridCol w="100800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7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Формулировка проблем исходного текста (К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мментарий к сформулированной проблеме исходного текста (К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8000" y="1569960"/>
          <a:ext cx="8709120" cy="4956120"/>
        </p:xfrm>
        <a:graphic>
          <a:graphicData uri="http://schemas.openxmlformats.org/drawingml/2006/table">
            <a:tbl>
              <a:tblPr/>
              <a:tblGrid>
                <a:gridCol w="439560"/>
                <a:gridCol w="2079720"/>
                <a:gridCol w="720720"/>
                <a:gridCol w="647640"/>
                <a:gridCol w="647640"/>
                <a:gridCol w="720720"/>
                <a:gridCol w="720720"/>
                <a:gridCol w="792360"/>
                <a:gridCol w="647640"/>
                <a:gridCol w="706320"/>
                <a:gridCol w="5860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user</cp:lastModifiedBy>
  <dcterms:modified xsi:type="dcterms:W3CDTF">2022-04-14T19:11:33Z</dcterms:modified>
  <cp:revision>205</cp:revision>
  <dc:subject/>
  <dc:title>Этапы компьютерного моделирования</dc:title>
</cp:coreProperties>
</file>